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85D-E33D-4992-86BA-379149D3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0C3-55D5-463A-91E0-A95CB05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BFD-855D-4C98-97B6-A7953726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AF3-DAB2-4020-8A4B-4DCF356B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B28A-9C33-4003-B670-9DC14867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93E-3614-40F4-82D4-FF6A277B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E3B-DD37-4A67-8B4A-F3A71C0A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085B-2D30-4456-8454-4D28CDC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487A-A32E-4CF0-890F-C30E5435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F08C-3623-40B2-807A-95E31AE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3D8-56B8-45B1-8246-0E6E80E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512-3D3B-4266-8E44-5A4E9CC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19A-655E-4D5E-BC6B-B57A988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692-8722-4970-90AC-4F0AACA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51A3-B68C-4F15-B4BB-AE582F2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04A-BD94-440E-B87A-71AADBA8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E7F-4804-4DE2-A3D0-4F839B47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E246-349F-4E2D-81DA-7A3FD96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C881-00A9-46B0-85D4-00A5D9C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068B-1F47-429F-A34A-1218E93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1176-56FC-4DDE-B601-BEFC706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99E1-9A16-4828-9ADA-840F5892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885-8F98-41FD-8961-0CC7AB6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9B06-A8FB-48CC-A387-28D4220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E65A-30F2-4F9F-B483-B331037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1D3A-4A25-4CD8-873C-9D73F35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F953-3A58-430D-9A01-9FD1790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0B3F-C529-46BC-B27B-B13B68F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658C-FE3F-4783-B3B3-4DB26FB7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4820-7471-4A06-8717-87C30E91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4C61-52EB-4A6E-A799-DC590AC1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29BC-5395-4F72-8D5F-D18F390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BFB5-933C-4277-B87E-14460F9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DA6-D7F9-4A0D-B175-870B1F76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C260A-C81E-4337-B8F4-6B6715C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8931-4178-4AFF-B647-E8964ECE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196B-9FF0-46EC-8A56-B95BE16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D7E5-673D-4046-AAEF-8152007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008E-1F78-49A7-82B7-9B8872B0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B244-8684-471D-B0D4-080AD4D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4AF6-633C-4303-B3E9-79DAAA5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AFFE-EBFC-4FAD-88C8-16101D51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713C-E79D-4E69-99CC-B9FDC28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F1B1-4053-4DB0-87C4-54782DBD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98F-6527-4CB4-9743-ADE25D1A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0431-73CF-455B-8C58-C259025B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13F5-992B-4896-B276-1E825154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CA02-ABE2-4470-8F1E-FBAA9995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777D-7C90-477C-BBF9-EA82FF7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BE08-596C-4B59-8429-8412616A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1FAB-F0C2-4F0F-BFA7-78617FE9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8B727-B1CC-4F54-900E-11C688E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585A-D142-4AE8-8F92-50B9589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E65B-438B-4716-AB48-E7CD31FA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9DB6-A2E3-4970-A6C7-656F9436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1EE-B3CA-489F-960F-A7290B5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8CEF-7B0A-40EA-8B76-22F89B58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F781-84CC-485A-BCD2-CA91D1AF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F10A-FB0F-4B99-86CF-BEF54BB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8813-9F8D-4AA0-AB93-E6036B0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D86B-A24F-43B7-99D4-0C7AE3B1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CC4E-EEFB-48CD-AF9C-D57B4C6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FE95-3890-4DE2-961B-25F25FB3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9D7B-3428-42EC-BD0F-A6D4452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0DA9-0B05-4F4D-A906-14309DC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4E46B-A85E-412E-AEAE-5275B65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879-E501-4604-87F1-099A0B0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DEAC-1CEC-48DC-A629-A2A67687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9D8D-6616-4E8D-BFE5-25EAB87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4923-E049-49BF-9B40-4B6131DD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A636-66EF-4834-8C22-7008669E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F3FE-BDD8-4323-9DE9-4EBA48C4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33BF-0A6A-4064-B21C-20040180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65912-67BE-4CD9-8BB1-42302B9B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714D-9CB0-47A1-8C64-B8EE0219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1632C-104F-4959-928A-5C75652E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05185-119C-4923-B9C5-7333CBB0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9E2-BEA2-4279-AD63-7CF498D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6C109-CF4E-49BD-B455-62C78E6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FD35-1A1F-4EBB-97A3-9EED42E7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4D1A-6AA4-4FC6-AC54-86D49F06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F3A5-2E77-4E02-99ED-27C5D071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CD164-18C7-4C4C-B68D-0D666E27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6E0-88FC-4791-B31E-E6552DD8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EA2F-2CCE-4426-A00B-ED4E35571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2021-04C7-495A-8A7D-7F58C61160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83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84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85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86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87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152A-3BE2-4CCA-B0B8-1E76B9316C1B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1D55-6A4B-492B-B1BB-355CF2334C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2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171" name="Straight Connector 13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2" name="Straight Connector 14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3" name="Straight Connector 15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4" name="Straight Connector 16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5" name="Straight Connector 17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38A1-F716-42B5-BF99-7942B04A49F4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18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19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20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21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22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23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rial Black"/>
              </a:rPr>
              <a:t>“</a:t>
            </a:r>
            <a:endParaRPr b="0" lang="en-US" sz="80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rial Black"/>
              </a:rPr>
              <a:t>”</a:t>
            </a:r>
            <a:endParaRPr b="0" lang="en-US" sz="80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0BAE-4C87-41F3-B373-021B20F227B3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67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70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271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72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“</a:t>
            </a:r>
            <a:endParaRPr b="0" lang="en-US" sz="80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80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9F2-035B-43C7-AFCB-C641464BBE51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2060"/>
                </a:solidFill>
                <a:latin typeface="Cambria"/>
              </a:rPr>
              <a:t>CONSFĂTUIREA JUDEȚEANĂ</a:t>
            </a:r>
            <a:br>
              <a:rPr sz="2800"/>
            </a:br>
            <a:r>
              <a:rPr b="0" lang="ro-RO" sz="2800" spc="-1" strike="noStrike">
                <a:solidFill>
                  <a:srgbClr val="002060"/>
                </a:solidFill>
                <a:latin typeface="Cambria"/>
              </a:rPr>
              <a:t>A PROFESORILOR DE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LIMB</a:t>
            </a:r>
            <a:r>
              <a:rPr b="0" lang="ro-RO" sz="2800" spc="-1" strike="noStrike">
                <a:solidFill>
                  <a:srgbClr val="002060"/>
                </a:solidFill>
                <a:latin typeface="Cambria"/>
              </a:rPr>
              <a:t>A ȘI LITERATURA ROMÂN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f496f"/>
                </a:solidFill>
                <a:latin typeface="Cambria"/>
              </a:rPr>
              <a:t>5 </a:t>
            </a:r>
            <a:r>
              <a:rPr b="1" lang="ro-RO" sz="2800" spc="-1" strike="noStrike">
                <a:solidFill>
                  <a:srgbClr val="0f496f"/>
                </a:solidFill>
                <a:latin typeface="Cambria"/>
              </a:rPr>
              <a:t>OCTOMBRIE 2019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f496f"/>
                </a:solidFill>
                <a:latin typeface="Cambria"/>
              </a:rPr>
              <a:t>TĂRGU-MUREŞ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AF9-8957-41AC-BDC3-AF5F9649FA55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I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CV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EuroPass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(cu documente justificativ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structura anului școlar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încadrarea (clase, nr. de or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o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rarul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fișa postulu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calendarul activităților pe anul în curs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II-a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programele școl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programele opționalelor în derul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planificarea anuală și semestrială a materiei pe unități de învăț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proiecte didactic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teste de evaluare inițială, curentă și sumativă, însoţite de barem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 de evaluare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și de not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interpretarea rezultatelor, măsuri ameliorativ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modalități alternative de evaluare (proiecte, referate, portofolii întocmite de elevi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fișe de lucru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caietul-catalo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inventarul materialului didactic di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unitatea de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învățămân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fișe cu asistențe la ore (pentru profesorii debutanți) şi de interasistenţe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30" name="Substituent număr diapozitiv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A04-B4BA-4D10-9F32-CC171CD90355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III-a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Regulamentele specifice olimpiadelor naționale și internațional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precizările și programele pentru olimpiadele național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subiecte și bareme de evaluare și de notare de olimpiadă propus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lista elevilor selectați pentru olimpiad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rezultatele obținute la diferite competiții/activități specifice disciplinei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IV-a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p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roiecte personale sau proiecte/programe în care este angajat pentru implement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V-a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perfecțion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/formare în domeniul discipline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VI-a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materiale didactice,  produse propri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ahom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 u="sng">
                <a:solidFill>
                  <a:srgbClr val="000000"/>
                </a:solidFill>
                <a:uFillTx/>
                <a:latin typeface="Cambria"/>
                <a:ea typeface="Tahoma"/>
              </a:rPr>
              <a:t>Partea a VII-a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  <a:ea typeface="Tahoma"/>
              </a:rPr>
              <a:t>: publicaţii în specialitate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53D-4C47-48A9-A48C-BA68194A8729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600200" y="533520"/>
            <a:ext cx="54878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PORTOFOLIUL ELEVULUI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519A-775B-4686-AD3C-3812A0DE2212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04560" y="151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08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"/>
              </a:rPr>
              <a:t>Portofoliul </a:t>
            </a:r>
            <a:r>
              <a:rPr b="0" lang="ro-RO" sz="2400" spc="-1" strike="noStrike">
                <a:solidFill>
                  <a:srgbClr val="000000"/>
                </a:solidFill>
                <a:latin typeface="Cambria"/>
              </a:rPr>
              <a:t>reprezintă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108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108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n 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cord”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între elev şi profesorul, care trebuie să-l ajute pe elev să se autoevalueze. Profesorul discută cu elevul despre ce trebuie să ştie şi ce trebuie să facă acesta de-a lungul procesului de învăţare. La începutul demersului educativ, se realizează un diagnostic asupra necesităţilor de învăţare ale elevului pentru a stabili obiectivele şi criteriile de evaluare. Diagnosticul este făcut de profesor şi este discutat cu elevul implicat în evaluare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ambria"/>
              </a:rPr>
              <a:t>PORTOFOLIUL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UPRINDE</a:t>
            </a:r>
            <a:r>
              <a:rPr b="0" lang="ro-RO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53760" y="10663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lista conţinutului acestuia (sumarul, care include titlul fiecărei lucrări/fiş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etc. şi numărul paginii la care se găseşte)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rgumentaţia care explică ce lucrări sunt incluse în portofoliu, de ce este importantă fiecare şi cum se articulează între ele într-o viziune de ansamblu a elevului/a grupului cu privire la subiectul respectiv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lucrările pe care le face elevul individual sau în grup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rezuma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eseur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rticole, referate, comunicăr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fişe individuale de studiu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fişe de lectur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roiec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tes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hestionare de atitudin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înregistrări, fotografii care reflectă activitatea desfăşurată de elev individual sau alături de colegii să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reflecţiile proprii ale elevului asupra a ceea ce lucreaz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utoevaluări scrise de elev sau de membrii grupulu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lte materiale: hărţi cognitive/literare, contribuţii la activitate care reflectă participarea elevului/ grupului la derularea şi soluţionarea temei da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obiective viitoare pornind de la realizările curente ale elevului/grupului, pe baza intereselor şi a progreselor înregistra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omentarii suplimentare şi evaluări ale profesorului, ale altor grupuri de învăţare şi/sau ale altor părţi interesat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de ex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părinţi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rezultate ale activităţilor de autoevaluar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uri de acţiune/evaluări/activităţi viitoare planificate de către elev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omentarii ale profesorului privind atitudinea şi rezultatele elevulu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CC9-0927-4398-AF65-990798963861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33520" y="533520"/>
            <a:ext cx="731520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SUCCES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ÎN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 </a:t>
            </a: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ANUL ȘCOLAR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 </a:t>
            </a:r>
            <a:r>
              <a:rPr b="1" lang="ro-RO" sz="2400" spc="-1" strike="noStrike">
                <a:solidFill>
                  <a:srgbClr val="0d2e46"/>
                </a:solidFill>
                <a:latin typeface="Cambria"/>
              </a:rPr>
              <a:t>2019-2020!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2" name="Substituent număr diapozitiv 4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B79-0B08-467C-92C1-C4D2CEB041B5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676160" y="533520"/>
            <a:ext cx="65530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f496f"/>
                </a:solidFill>
                <a:latin typeface="Cambria"/>
              </a:rPr>
              <a:t>PORTOFOLIUL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f496f"/>
                </a:solidFill>
                <a:latin typeface="Cambria"/>
              </a:rPr>
              <a:t>INSPECTORULUI </a:t>
            </a:r>
            <a:r>
              <a:rPr b="1" lang="ro-RO" sz="3200" spc="-1" strike="noStrike">
                <a:solidFill>
                  <a:srgbClr val="0f496f"/>
                </a:solidFill>
                <a:latin typeface="Cambria"/>
              </a:rPr>
              <a:t>ȘCOLAR PENTRU LIMBA ȘI LITERATURA ROMÂNĂ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A67-7DA3-4F47-BFF6-4010D4DFA131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828800" y="45720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PORTOFOLIUL </a:t>
            </a: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PROFESORULUI METODIST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izi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de numire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/Delegați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Curriculum Vitae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(Euro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ass)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Delegaţia/repartizarea inspecţiilor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Graficul de evidenţă a inspecţiilor efectuat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Graficul inspecţiilor de specialitate şi tematic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Diagnoza procesului de învăţământ de specialitate (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î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n sectorul/zona arondat(ă), la finele fiecărui semestru);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Copie a rapoartelor de inspecţi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Modele de documente de planificare şi proiect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re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 didactic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ă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 la nivelul învăţământului gimnazial şi liceal, după caz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Legi, ordine,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H.G-uri, 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note ale M.E.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.,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ale 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Guvernului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le ISJ</a:t>
            </a:r>
            <a:r>
              <a:rPr b="0" lang="fr-FR" sz="2000" spc="-1" strike="noStrike">
                <a:solidFill>
                  <a:srgbClr val="000000"/>
                </a:solidFill>
                <a:latin typeface="Cambria"/>
              </a:rPr>
              <a:t> privind  învăţământul preuniversitar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delul formularelor tip folosite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 cadrul inspecţiilor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444-06FA-4008-AB3B-ADA673D8FE4D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33520" y="53352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PORTOFOLIUL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RESPONSABILULU</a:t>
            </a: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I DE CATEDRĂ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Tabel  nominal cu membrii catedrei şi datele lor personale (telefon,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adresa de e-mail, şcoala de provenienţă, grad didactic, specialitatea,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vechimea în învăţământ etc.)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ul de activităţi metodico-ştiinţifice ale catedrei pentru anul școlar  în curs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Raportul de activitate la nivel de catedră pentru anul şcolar anterior / semestrul anterior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ul managerial al catedre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alendarul şi tematica activităţilor de catedr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rocesele-verbale ale şedinţelor de catedr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rogramele şcolare valabile în anul şcolar în curs 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rogramele pentru examenele naţionale (Evaluare naţională – clasa a VI-a, Evaluarea națională – clasa a VIII-a, Bacalaureat) şi pentru concursurile şcolare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ificările calendaristice ale membrilor catedre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urile-cadru pentru anul şcolar în curs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Materialele ştiinţifice şi metodice prezentate în cadrul activităţilor de catedră 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alendarul olimpiadelor şi al concursurilor şcolare la care participă elevii unității de învățământ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Rezultate la olimpiade şi concursuri şcolare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28600" y="762120"/>
            <a:ext cx="868680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f496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PORTOFOLIUL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RESPONSABILULUI</a:t>
            </a: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 DE CERC</a:t>
            </a: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 </a:t>
            </a:r>
            <a:r>
              <a:rPr b="1" lang="ro-RO" sz="3600" spc="-1" strike="noStrike">
                <a:solidFill>
                  <a:srgbClr val="0f496f"/>
                </a:solidFill>
                <a:latin typeface="Cambria"/>
              </a:rPr>
              <a:t>PEDAGOGIC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split dir="in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Lista şcolilor arondate cercului pedagogic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lanul de activități al responsabilului cercului pedagogic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Tematica şedinţelor de cerc, data şi locul desfăşurării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Procesele-verbale încheiate la activităţile de cerc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Materialele ştiinţifice şi metodice prezentate în cadrul activităţilor de cerc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365040" indent="-255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mbria"/>
              </a:rPr>
              <a:t>Calendarul examenelor naţionale (Evaluarea națională – clasa a VI-a, Evaluarea națională – clasa a VIII-a, Bacalaureat), al olimpiadelor şi al concursurilor şcolare din anul şcolar în curs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294920" y="609120"/>
            <a:ext cx="579276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f496f"/>
                </a:solidFill>
                <a:latin typeface="Cambria"/>
              </a:rPr>
              <a:t>PORTOFOLIUL PROFESORULUI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A19-2C9A-4C67-AFD4-09D00DA81C99}" type="slidenum"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</cp:lastModifiedBy>
  <dcterms:modified xsi:type="dcterms:W3CDTF">2019-10-04T21:41:41Z</dcterms:modified>
  <cp:revision>646</cp:revision>
  <dc:subject/>
  <dc:title>Comisia Nationala de Informatica</dc:title>
</cp:coreProperties>
</file>